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BDC1FA-A7B8-474D-88B9-46FF171863A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A122AB-F8C1-49E5-953F-3F91DAD7D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49D119-9B8E-45CD-8F61-3FAA7BC03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0BB226-2566-4ABD-AA02-A2BC2AD1613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7CF40E-973B-4654-9C84-4E0893E37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075141-4904-423E-869B-1F6285272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71F8EB-0791-43C0-AA4D-B0E8C0A8F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B7D6D0-89A5-4F82-A672-534D3C00B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549B0F-1367-4A51-8C2B-2E8D3D3AD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605E8A-26A3-4B67-9C44-FCE0C14F4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092B6A-1C80-4DC9-A9C5-0154D925B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4BC475-2595-4261-9DCC-443E0BB90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9A856-AEAA-4E5B-B328-6014E6B154A3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二十三章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治疗消化性溃疡和胃炎的药物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质子泵抑制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000"/>
                </a:solidFill>
                <a:latin typeface="Verdana"/>
                <a:ea typeface="宋体"/>
              </a:rPr>
              <a:t>（一）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奥美拉唑（</a:t>
            </a: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omeprazole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体内过程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口服小肠吸收，主要分布于胃肠道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血浆</a:t>
            </a:r>
            <a:r>
              <a:rPr b="0" i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t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Verdana"/>
                <a:ea typeface="宋体"/>
              </a:rPr>
              <a:t>1/2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为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0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60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分钟，单剂量生物利用度约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5%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口服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0mg/d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周后可使胃酸分泌抑制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70%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80%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用法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消化性溃疡和反流性食管炎：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0mg  QD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疗程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3" marL="1771560" indent="-514080">
              <a:spcBef>
                <a:spcPts val="601"/>
              </a:spcBef>
              <a:buClr>
                <a:srgbClr val="046ca6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十二指肠溃疡为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周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3" marL="1771560" indent="-514080">
              <a:spcBef>
                <a:spcPts val="601"/>
              </a:spcBef>
              <a:buClr>
                <a:srgbClr val="046ca6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胃溃疡和反流性食管炎为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8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周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质子泵抑制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000"/>
                </a:solidFill>
                <a:latin typeface="Verdana"/>
                <a:ea typeface="宋体"/>
              </a:rPr>
              <a:t>（一）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奥美拉唑（</a:t>
            </a: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omeprazole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 startAt="5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不良反应和禁忌证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不良反应少，如恶心、呕吐等，停药可恢复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孕妇、哺乳期妇女及肝肾功能不良者慎用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质子泵抑制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000"/>
                </a:solidFill>
                <a:latin typeface="Verdana"/>
                <a:ea typeface="宋体"/>
              </a:rPr>
              <a:t>（一）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奥美拉唑（</a:t>
            </a: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omeprazole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 startAt="6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71600" indent="-45720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长期应用可能导致维生素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B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Verdana"/>
                <a:ea typeface="宋体"/>
              </a:rPr>
              <a:t>12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缺乏，连续服用超过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年者应监测血清维生素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B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Verdana"/>
                <a:ea typeface="宋体"/>
              </a:rPr>
              <a:t>12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水平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71600" indent="-45720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食物会影响药物吸收，宜空腹服药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71600" indent="-45720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本品与酸性环境易降解，故口服不可咀嚼，不可倾倒出胶囊内的内容物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71600" indent="-45720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本品具有肝药酶抑制作用，可延缓如地西泮、苯妥英钠、华法林、双香豆素等药物的代谢，与上述药物合用时，应酌减上述药物的用量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71600" indent="-45720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质子泵抑制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4920" y="1125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000"/>
                </a:solidFill>
                <a:latin typeface="Verdana"/>
                <a:ea typeface="宋体"/>
              </a:rPr>
              <a:t>（二）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其他常用药物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227160" y="1700280"/>
          <a:ext cx="8737560" cy="4949640"/>
        </p:xfrm>
        <a:graphic>
          <a:graphicData uri="http://schemas.openxmlformats.org/drawingml/2006/table">
            <a:tbl>
              <a:tblPr/>
              <a:tblGrid>
                <a:gridCol w="1249200"/>
                <a:gridCol w="3527280"/>
                <a:gridCol w="396108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46ca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兰索拉唑（又称达克普隆）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46ca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埃索美拉唑（又称耐信）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46ca6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作用特点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作用机制类似于与奥美拉唑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作用机制类似于与奥美拉唑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1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临床应用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胃、十二指肠溃疡，反流性食管炎，卓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-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艾综合征等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反流性食管炎、消化性溃疡，联合其他药物可用于根除幽门螺杆菌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1"/>
                    </a:solidFill>
                  </a:tcPr>
                </a:tc>
              </a:tr>
              <a:tr h="1189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剂量用法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消化性溃疡、反流性食管炎：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30mg  QD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，疗程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6~8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周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根除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HP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： 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30mg BID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， 联合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2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种抗生素，疗程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1~2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周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反流性食管炎：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20~40mg QD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，疗程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4~8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周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根除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HP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：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20mg BID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，联合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2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种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抗生素，疗程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1~2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周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1"/>
                    </a:solidFill>
                  </a:tcPr>
                </a:tc>
              </a:tr>
              <a:tr h="914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不良反应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偶有皮疹、贫血、粒细胞改变、口渴、腹胀、便秘、头痛、嗜睡及肝脏损害；停药后可恢复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头痛、腹痛、腹泻等；皮肤瘙痒、荨麻疹等；停药可恢复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1"/>
                    </a:solidFill>
                  </a:tcPr>
                </a:tc>
              </a:tr>
              <a:tr h="14626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药疗监护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对高龄患者，因本药会导致患者胃酸分泌功能与其他生理功能降低；肝肾功能不全者、孕妇、哺乳期妇女慎用或不用；应先排除胃癌后再用药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定期检测肝功能，定期进行内镜检查，观察病灶恢复情况；对本药或者奥美拉唑过敏者禁用；哺乳期妇女应避免使用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Verdana"/>
                <a:ea typeface="宋体"/>
              </a:rPr>
              <a:t>第二节</a:t>
            </a:r>
            <a:r>
              <a:rPr b="1" lang="en-US" sz="40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zh-CN" sz="4000" spc="-1" strike="noStrike">
                <a:solidFill>
                  <a:srgbClr val="046ca6"/>
                </a:solidFill>
                <a:latin typeface="Verdana"/>
                <a:ea typeface="宋体"/>
              </a:rPr>
              <a:t>黏膜保护剂</a:t>
            </a:r>
            <a:endParaRPr b="0" lang="en-US" sz="4000" spc="-1" strike="noStrike">
              <a:solidFill>
                <a:srgbClr val="046ca6"/>
              </a:solidFill>
              <a:latin typeface="Verdana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黏膜保护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04560" y="1371240"/>
            <a:ext cx="883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000"/>
                </a:solidFill>
                <a:latin typeface="Verdana"/>
                <a:ea typeface="宋体"/>
              </a:rPr>
              <a:t>（一）</a:t>
            </a:r>
            <a:r>
              <a:rPr b="1" lang="zh-CN" sz="3200" spc="-1" strike="noStrike">
                <a:solidFill>
                  <a:srgbClr val="046ca6"/>
                </a:solidFill>
                <a:latin typeface="Calibri"/>
                <a:ea typeface="宋体"/>
              </a:rPr>
              <a:t>枸橼酸铋钾（</a:t>
            </a:r>
            <a:r>
              <a:rPr b="1" lang="en-US" sz="3200" spc="-1" strike="noStrike">
                <a:solidFill>
                  <a:srgbClr val="046ca6"/>
                </a:solidFill>
                <a:latin typeface="Calibri"/>
                <a:ea typeface="宋体"/>
              </a:rPr>
              <a:t>bismuth potassium citrate</a:t>
            </a:r>
            <a:r>
              <a:rPr b="1" lang="zh-CN" sz="3200" spc="-1" strike="noStrike">
                <a:solidFill>
                  <a:srgbClr val="046ca6"/>
                </a:solidFill>
                <a:latin typeface="Calibri"/>
                <a:ea typeface="宋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Calibri"/>
                <a:ea typeface="宋体"/>
              </a:rPr>
              <a:t>又称：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胶体次枸橼酸铋、三甲二枸橼酸铋，铋诺，德诺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857160" indent="-457200">
              <a:spcBef>
                <a:spcPts val="601"/>
              </a:spcBef>
              <a:buClr>
                <a:srgbClr val="8ac8de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药理作用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257480" indent="-45720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在酸性环境下，在溃疡表面或溃疡基底肉芽组织上形成一种坚固的氧化铋胶体沉淀，隔绝胃酸、胃蛋白酶等对溃疡面的侵蚀，促进溃疡愈合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 lvl="2" marL="1257480" indent="-45720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与胃蛋白酶发生络合反应，使之失活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 lvl="2" marL="1257480" indent="-45720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促进碳酸氢盐和黏液分泌，增强胃黏膜防御力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 lvl="2" marL="1257480" indent="-45720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刺激内源性前列腺素的合成和释放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 lvl="2" marL="1257480" indent="-45720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抑制幽门螺杆菌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黏膜保护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04560" y="1371240"/>
            <a:ext cx="883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000"/>
                </a:solidFill>
                <a:latin typeface="Verdana"/>
                <a:ea typeface="宋体"/>
              </a:rPr>
              <a:t>（一）</a:t>
            </a:r>
            <a:r>
              <a:rPr b="1" lang="zh-CN" sz="3200" spc="-1" strike="noStrike">
                <a:solidFill>
                  <a:srgbClr val="046ca6"/>
                </a:solidFill>
                <a:latin typeface="Calibri"/>
                <a:ea typeface="宋体"/>
              </a:rPr>
              <a:t>枸橼酸铋钾（</a:t>
            </a:r>
            <a:r>
              <a:rPr b="1" lang="en-US" sz="3200" spc="-1" strike="noStrike">
                <a:solidFill>
                  <a:srgbClr val="046ca6"/>
                </a:solidFill>
                <a:latin typeface="Calibri"/>
                <a:ea typeface="宋体"/>
              </a:rPr>
              <a:t>bismuth potassium citrate</a:t>
            </a:r>
            <a:r>
              <a:rPr b="1" lang="zh-CN" sz="3200" spc="-1" strike="noStrike">
                <a:solidFill>
                  <a:srgbClr val="046ca6"/>
                </a:solidFill>
                <a:latin typeface="Calibri"/>
                <a:ea typeface="宋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Calibri"/>
                <a:ea typeface="宋体"/>
              </a:rPr>
              <a:t>又称：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胶体次枸橼酸铋、三甲二枸橼酸铋，铋诺，德诺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857160" indent="-457200">
              <a:spcBef>
                <a:spcPts val="601"/>
              </a:spcBef>
              <a:buClr>
                <a:srgbClr val="8ac8de"/>
              </a:buClr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临床应用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257480" indent="-45720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胃及十二指肠溃疡、复合溃疡、多发溃疡、吻合口溃疡、慢性胃炎、糜烂性胃炎等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 lvl="1" marL="857160" indent="-457200">
              <a:spcBef>
                <a:spcPts val="601"/>
              </a:spcBef>
              <a:buClr>
                <a:srgbClr val="8ac8de"/>
              </a:buClr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体内过程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257480" indent="-45720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在胃内形成不溶性的氧化铋胶体沉淀，仅有少量铋剂可被吸收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 lvl="2" marL="1257480" indent="-45720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被吸收的痕迹量的铋主要分布于肾等组织，经肾排泄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 lvl="2" marL="1257480" indent="-45720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未被吸收的部分经粪便排出体外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黏膜保护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560" y="1371240"/>
            <a:ext cx="883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000"/>
                </a:solidFill>
                <a:latin typeface="Verdana"/>
                <a:ea typeface="宋体"/>
              </a:rPr>
              <a:t>（一）</a:t>
            </a:r>
            <a:r>
              <a:rPr b="1" lang="zh-CN" sz="3200" spc="-1" strike="noStrike">
                <a:solidFill>
                  <a:srgbClr val="046ca6"/>
                </a:solidFill>
                <a:latin typeface="Calibri"/>
                <a:ea typeface="宋体"/>
              </a:rPr>
              <a:t>枸橼酸铋钾（</a:t>
            </a:r>
            <a:r>
              <a:rPr b="1" lang="en-US" sz="3200" spc="-1" strike="noStrike">
                <a:solidFill>
                  <a:srgbClr val="046ca6"/>
                </a:solidFill>
                <a:latin typeface="Calibri"/>
                <a:ea typeface="宋体"/>
              </a:rPr>
              <a:t>bismuth potassium citrate</a:t>
            </a:r>
            <a:r>
              <a:rPr b="1" lang="zh-CN" sz="3200" spc="-1" strike="noStrike">
                <a:solidFill>
                  <a:srgbClr val="046ca6"/>
                </a:solidFill>
                <a:latin typeface="Calibri"/>
                <a:ea typeface="宋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Calibri"/>
                <a:ea typeface="宋体"/>
              </a:rPr>
              <a:t>又称：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胶体次枸橼酸铋、三甲二枸橼酸铋，铋诺，德诺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857160" indent="-457200">
              <a:spcBef>
                <a:spcPts val="601"/>
              </a:spcBef>
              <a:buClr>
                <a:srgbClr val="8ac8de"/>
              </a:buClr>
              <a:buFont typeface="Verdan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用法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257480" indent="-45720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缓解胃酸过多：口服，</a:t>
            </a:r>
            <a:r>
              <a:rPr b="0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0.3g  4ID</a:t>
            </a: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，餐前半小时或睡前服用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 lvl="2" marL="1257480" indent="-45720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胃、十二指肠溃疡和慢性胃炎：疗程</a:t>
            </a:r>
            <a:r>
              <a:rPr b="0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4~8</a:t>
            </a: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周，停药</a:t>
            </a:r>
            <a:r>
              <a:rPr b="0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4~8</a:t>
            </a: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周，如有必要可以再继续服用</a:t>
            </a:r>
            <a:r>
              <a:rPr b="0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4~8</a:t>
            </a: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周。连续使用不超过</a:t>
            </a:r>
            <a:r>
              <a:rPr b="0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8</a:t>
            </a: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周。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黏膜保护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4560" y="1371240"/>
            <a:ext cx="883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000"/>
                </a:solidFill>
                <a:latin typeface="Verdana"/>
                <a:ea typeface="宋体"/>
              </a:rPr>
              <a:t>（一）</a:t>
            </a:r>
            <a:r>
              <a:rPr b="1" lang="zh-CN" sz="3200" spc="-1" strike="noStrike">
                <a:solidFill>
                  <a:srgbClr val="046ca6"/>
                </a:solidFill>
                <a:latin typeface="Calibri"/>
                <a:ea typeface="宋体"/>
              </a:rPr>
              <a:t>枸橼酸铋钾（</a:t>
            </a:r>
            <a:r>
              <a:rPr b="1" lang="en-US" sz="3200" spc="-1" strike="noStrike">
                <a:solidFill>
                  <a:srgbClr val="046ca6"/>
                </a:solidFill>
                <a:latin typeface="Calibri"/>
                <a:ea typeface="宋体"/>
              </a:rPr>
              <a:t>bismuth potassium citrate</a:t>
            </a:r>
            <a:r>
              <a:rPr b="1" lang="zh-CN" sz="3200" spc="-1" strike="noStrike">
                <a:solidFill>
                  <a:srgbClr val="046ca6"/>
                </a:solidFill>
                <a:latin typeface="Calibri"/>
                <a:ea typeface="宋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Calibri"/>
                <a:ea typeface="宋体"/>
              </a:rPr>
              <a:t>又称：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胶体次枸橼酸铋、三甲二枸橼酸铋，铋诺，德诺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857160" indent="-457200">
              <a:spcBef>
                <a:spcPts val="601"/>
              </a:spcBef>
              <a:buClr>
                <a:srgbClr val="8ac8de"/>
              </a:buClr>
              <a:buFont typeface="Verdan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不良反应和禁忌证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257480" indent="-45720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口中有氨味，舌、粪呈黑色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 lvl="2" marL="1257480" indent="-45720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恶心、呕吐、便秘等消化系统症状，停药后消失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 lvl="2" marL="1257480" indent="-45720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血铋浓度超过</a:t>
            </a:r>
            <a:r>
              <a:rPr b="0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0.05</a:t>
            </a:r>
            <a:r>
              <a:rPr b="0" lang="en-US" sz="2000" spc="-1" strike="noStrike">
                <a:solidFill>
                  <a:srgbClr val="046ca6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g/ml</a:t>
            </a: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，有发生神经毒性的危险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 lvl="2" marL="1257480" indent="-45720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个别患者可出现过敏，表现同荨麻疹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 lvl="2" marL="1257480" indent="-45720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也有报道出现牙釉质粉状剥脱性损害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黏膜保护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04560" y="1371240"/>
            <a:ext cx="883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000"/>
                </a:solidFill>
                <a:latin typeface="Verdana"/>
                <a:ea typeface="宋体"/>
              </a:rPr>
              <a:t>（一）</a:t>
            </a:r>
            <a:r>
              <a:rPr b="1" lang="zh-CN" sz="3200" spc="-1" strike="noStrike">
                <a:solidFill>
                  <a:srgbClr val="046ca6"/>
                </a:solidFill>
                <a:latin typeface="Calibri"/>
                <a:ea typeface="宋体"/>
              </a:rPr>
              <a:t>枸橼酸铋钾（</a:t>
            </a:r>
            <a:r>
              <a:rPr b="1" lang="en-US" sz="3200" spc="-1" strike="noStrike">
                <a:solidFill>
                  <a:srgbClr val="046ca6"/>
                </a:solidFill>
                <a:latin typeface="Calibri"/>
                <a:ea typeface="宋体"/>
              </a:rPr>
              <a:t>bismuth potassium citrate</a:t>
            </a:r>
            <a:r>
              <a:rPr b="1" lang="zh-CN" sz="3200" spc="-1" strike="noStrike">
                <a:solidFill>
                  <a:srgbClr val="046ca6"/>
                </a:solidFill>
                <a:latin typeface="Calibri"/>
                <a:ea typeface="宋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Calibri"/>
                <a:ea typeface="宋体"/>
              </a:rPr>
              <a:t>又称：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胶体次枸橼酸铋、三甲二枸橼酸铋，铋诺，德诺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857160" indent="-457200">
              <a:spcBef>
                <a:spcPts val="601"/>
              </a:spcBef>
              <a:buClr>
                <a:srgbClr val="8ac8de"/>
              </a:buClr>
              <a:buFont typeface="Verdan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药疗监护须知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71600" indent="-45720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服药前告知患者常见的副作用，如舌和粪便黑染，口中带氨味等，消除患者疑虑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 lvl="2" marL="1371600" indent="-45720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服药前后半小时不要进食牛奶或其他高蛋白食物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 lvl="2" marL="1371600" indent="-45720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应注意观察头痛、头晕、记忆力减退等神经系统表现，以防出现神经系统中毒或铋剂脑病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 lvl="2" marL="1371600" indent="-45720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长期使用（</a:t>
            </a:r>
            <a:r>
              <a:rPr b="0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&gt;2</a:t>
            </a: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个月）应监测肾功能，以防止小剂量蓄积，损害肾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 lvl="2" marL="1371600" indent="-45720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过量抢救；及时洗胃、重复使用活性炭悬浮液及轻泻剂。监测血、尿铋浓度和肾功能。血铋浓度过高时，可使用</a:t>
            </a:r>
            <a:r>
              <a:rPr b="0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2-</a:t>
            </a: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巯基琥珀酸或</a:t>
            </a:r>
            <a:r>
              <a:rPr b="0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2-</a:t>
            </a: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巯基丙磺酸络合疗法治疗，必要时行血液透析治疗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主要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胃酸分泌抑制剂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黏膜保护剂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抗酸药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根除幽门螺杆菌方案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胃动力药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黏膜保护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000"/>
                </a:solidFill>
                <a:latin typeface="Verdana"/>
                <a:ea typeface="宋体"/>
              </a:rPr>
              <a:t>（二）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其他常用药物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胶体果胶铋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又称碱式果胶酸铋钾、维敏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作用机制类似于胶体铋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主要用于治疗胃及十二指肠溃疡、慢性浅表性胃炎、慢性萎缩性胃炎和消化道出血，根除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HP 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宜餐前和睡前服用；治疗消化道出血宜倾倒出胶囊内容物，用水搅匀后服用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黏膜保护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000"/>
                </a:solidFill>
                <a:latin typeface="Verdana"/>
                <a:ea typeface="宋体"/>
              </a:rPr>
              <a:t>（二）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其他常用药物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硫糖铝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又称胃溃宁、迪先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在酸性环境广泛聚合为粘稠的多聚体，可牢固粘着于上皮细胞和溃疡表面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口服吸收少，作用持续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5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小时，主要用于治疗胃炎、胃、十二指肠溃疡以及反流性食管炎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宜饭前或睡前服用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不良反应轻。长期大量服用应监测血清铝浓度；过敏或哺乳期妇女不宜使用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黏膜保护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000"/>
                </a:solidFill>
                <a:latin typeface="Verdana"/>
                <a:ea typeface="宋体"/>
              </a:rPr>
              <a:t>（二）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其他常用药物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吉法酯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又称合欢香叶酯，胃家强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-G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直接作用于胃黏膜上皮细胞，促进其新陈代谢，增强其抗溃疡的能力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主要用于治疗胃和十二指肠溃疡，急、慢性胃炎、胃痉挛和结肠炎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黏膜保护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000"/>
                </a:solidFill>
                <a:latin typeface="Verdana"/>
                <a:ea typeface="宋体"/>
              </a:rPr>
              <a:t>（二）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其他常用药物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米索前列醇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又称喜克溃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强烈抑制基础胃酸分泌、刺激胃酸分泌量；增加黏膜血流，保护胃黏膜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主要用于胃及十二指肠溃疡的治疗，以及预防非甾体抗炎药引起的出血性消化性溃疡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餐前或睡前服用；不良反应少，停药后好转；孕妇及对前列腺素过敏者禁用；脑血管及冠状动脉病变患者慎用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Verdana"/>
                <a:ea typeface="宋体"/>
              </a:rPr>
              <a:t>第三节   抗酸药</a:t>
            </a:r>
            <a:endParaRPr b="0" lang="en-US" sz="4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抗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（一）铝碳酸镁（</a:t>
            </a: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hydrotalcite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又称达喜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399960">
              <a:spcBef>
                <a:spcPts val="700"/>
              </a:spcBef>
              <a:buClr>
                <a:srgbClr val="8ac8de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药理作用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257480" indent="-45720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中和胃酸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257480" indent="-45720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保护胃黏膜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257480" indent="-45720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促进前列腺素合成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399960">
              <a:spcBef>
                <a:spcPts val="700"/>
              </a:spcBef>
              <a:buClr>
                <a:srgbClr val="8ac8de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临床应用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257480" indent="-45720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胃溃疡及十二指肠溃疡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257480" indent="-45720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急、慢性胃炎及反流性食管炎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257480" indent="-45720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胃酸过多有关的胃部不适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7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抗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（一）铝碳酸镁（</a:t>
            </a: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hydrotalcite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又称达喜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399960">
              <a:spcBef>
                <a:spcPts val="700"/>
              </a:spcBef>
              <a:buClr>
                <a:srgbClr val="8ac8de"/>
              </a:buClr>
              <a:buFont typeface="Verdan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体内过程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不溶于水，口服后不吸收，体内无各种成分的蓄积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399960">
              <a:spcBef>
                <a:spcPts val="700"/>
              </a:spcBef>
              <a:buClr>
                <a:srgbClr val="8ac8de"/>
              </a:buClr>
              <a:buFont typeface="Verdan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使用方法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0.5~1.0g  TID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胃溃疡疗程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8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周；十二指肠溃疡疗程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6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周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7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抗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（一）铝碳酸镁（</a:t>
            </a: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hydrotalcite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又称达喜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399960">
              <a:spcBef>
                <a:spcPts val="700"/>
              </a:spcBef>
              <a:buClr>
                <a:srgbClr val="8ac8de"/>
              </a:buClr>
              <a:buFont typeface="Verdan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不良反应和禁忌证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不良反应少，偶有腹泻、口渴、食欲下降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过敏、胃酸缺乏、接受结肠或回肠造口术者、慢性腹泻换患者、肠梗阻患者等禁用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胃肠蠕动功能不良以及严重肝功能障碍者者慎用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8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抗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（一）铝碳酸镁（</a:t>
            </a: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hydrotalcite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又称达喜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399960">
              <a:spcBef>
                <a:spcPts val="700"/>
              </a:spcBef>
              <a:buClr>
                <a:srgbClr val="8ac8de"/>
              </a:buClr>
              <a:buFont typeface="Verdan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片剂或咀嚼片宜嚼碎服用，悬胶剂宜混匀后服用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严重肾功能障碍者长期服用应监测血铝水平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环丙沙星、氧氟沙星、含铁的药物、抗凝药物、地高辛、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H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受体拮抗剂等，在服用时应与本品间隔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~2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小时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由于含铝、镁两种金属离子，从而相互抵消了便秘和腹泻的不良反应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8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抗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（二）其他常用抗酸药物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氢氧化铝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弱碱性药物，中和胃酸；胃液混合形成的凝胶，保护胃黏膜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主要用于治疗胃、十二指肠溃疡、胃食管反流性疾病和上消化道出血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餐后服用作用时间可达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小时，大部分自粪便排出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常见不良反应有便秘，严重时可引起肠梗阻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长期便秘者慎用；肾功能不全患者应注意铝在体内的蓄积；片剂宜嚼碎服用，凝胶剂宜混匀服用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Verdana"/>
                <a:ea typeface="宋体"/>
              </a:rPr>
              <a:t>第一节   胃酸分泌抑制剂</a:t>
            </a:r>
            <a:endParaRPr b="0" lang="en-US" sz="4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抗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（二）其他常用抗酸药物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碳酸氢钠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又称小苏打，重碳酸钠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口服后能迅速中和胃酸，减轻疼痛，能碱化尿液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主要用于治疗多种原因引起的胃酸分泌过多。静脉使用可用于代谢性酸血症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碱化尿液的作用对解救苯巴比妥、阿斯匹林等药物中毒有一定价值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口服后中和胃酸时产生大量二氧化碳，可刺激溃疡面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充血性心力衰竭、水肿、肾功能衰竭患者酸中毒时使用本药应慎重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抗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（二）其他常用抗酸药物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氧化镁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抗酸作用强，且缓慢而持久，不产生二氧化碳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适用于伴有便秘的胃酸过多症、胃及十二指肠溃疡者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肾功能不全者服后可造成蓄积中毒，应慎用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碳酸钙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抗酸作用强而持久，起效快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主要用于胃酸过多以及消化性溃疡的辅助治疗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本药长期服用可能可发生高钙血症，故不应长期、大量服用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9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Verdana"/>
                <a:ea typeface="宋体"/>
              </a:rPr>
              <a:t>第四节   根除幽门螺杆菌方案</a:t>
            </a:r>
            <a:endParaRPr b="0" lang="en-US" sz="4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理想的根除方案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698400" indent="-26856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根除率高（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90%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以上）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698400" indent="-26856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副作用小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698400" indent="-26856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疗程短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698400" indent="-26856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价格合理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marL="322200" indent="-32220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常用药物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698400" indent="-26856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治疗溃疡的药物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074240" indent="-21456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如质子泵抑制剂、铋剂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698400" indent="-26856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抗菌药物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074240" indent="-21456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阿莫西林、甲硝唑、呋喃唑酮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marL="322200" indent="-32220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根除幽门螺杆菌方案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ddb523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铋剂联合两种抗菌药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标准计量铋剂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+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阿莫西林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0.5g+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甲硝唑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0.4g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               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或四环素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0.5g+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甲硝唑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0.4g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               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或克拉霉素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0.25g+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甲硝唑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0.4g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标准剂量铋剂：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枸橼酸铋钾</a:t>
            </a:r>
            <a:r>
              <a:rPr b="0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0.22g</a:t>
            </a: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或</a:t>
            </a:r>
            <a:r>
              <a:rPr b="0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0.24g</a:t>
            </a: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；果胶铋</a:t>
            </a:r>
            <a:r>
              <a:rPr b="0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0.24g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用法：每日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次，共用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~2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周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根除幽门螺杆菌方案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ddb523"/>
              </a:buClr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质子泵抑制剂联合两种抗菌药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标准剂量质子泵抑制剂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+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克拉霉素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0.5g+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阿莫西林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.0g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                           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或阿莫西林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.0g+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甲硝唑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0.4g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                           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或克拉霉素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0.25g+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甲硝唑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0.4g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标准剂量质子泵抑制剂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埃索美拉唑</a:t>
            </a:r>
            <a:r>
              <a:rPr b="0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20mg</a:t>
            </a: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；雷贝拉唑</a:t>
            </a:r>
            <a:r>
              <a:rPr b="0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10mg</a:t>
            </a: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；兰索拉唑</a:t>
            </a:r>
            <a:r>
              <a:rPr b="0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30mg</a:t>
            </a: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；奥美拉唑</a:t>
            </a:r>
            <a:r>
              <a:rPr b="0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20mg</a:t>
            </a: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服用方法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每日</a:t>
            </a:r>
            <a:r>
              <a:rPr b="0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次，共服用</a:t>
            </a:r>
            <a:r>
              <a:rPr b="0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周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 marL="514440" indent="-514440">
              <a:spcBef>
                <a:spcPts val="700"/>
              </a:spcBef>
              <a:buClr>
                <a:srgbClr val="ddb523"/>
              </a:buClr>
              <a:buFont typeface="Verdan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其他方案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其他方案：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H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受体拮抗剂或质子泵抑制剂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+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铋剂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+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两种抗生素组成四联疗法，多用于其他方案失败的病例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Verdana"/>
                <a:ea typeface="宋体"/>
              </a:rPr>
              <a:t>第五节   胃动力药物</a:t>
            </a:r>
            <a:endParaRPr b="0" lang="en-US" sz="4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胃动力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（一）多潘立酮（</a:t>
            </a: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domperidone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药理作用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增加胃肠道动力，促进胃排空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止吐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临床应用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消化不良、腹胀、嗳气、恶心、呕吐以及腹部胀痛，胃肠反流性疾病，慢性胃炎等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体内过程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肝脏代谢，半衰期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7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8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小时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口服、肌肉注射或直肠给药均易吸收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存在“首过效应”，口服生物利用度较低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胃动力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（一）多潘立酮（</a:t>
            </a: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domperidone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服用方法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口服片剂： 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0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0mg   TID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混悬液：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0ml     TID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不良反应和禁忌证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本品可存进催乳激素的释放药，部分更年期后的妇女及男性患者可出现乳房胀痛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嗜铬细胞瘤、乳癌、机械性肠梗阻、胃肠出血、对本品过敏者等患者禁用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胃动力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（一）多潘立酮（</a:t>
            </a: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domperidone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 startAt="6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餐前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5~30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分钟口服。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抗酸剂和抑制胃酸分泌药不宜与本品同服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山莨菪碱、颠茄等抗胆碱能药物会减弱本品的作用，不宜与本品同服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孕妇慎用，哺乳期妇女使用本品期间应停止哺乳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H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Verdana"/>
                <a:ea typeface="宋体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拮抗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（一）法莫替丁（</a:t>
            </a: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famotidine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又称：胃舒达，高舒达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药理作用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竞争性占领胃黏膜细胞基膜上的组胺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H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受体，阻断组胺促进胃酸分泌的作用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有效抑制基础胃酸分泌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刺激条件下引起胃酸分泌的抑制作用弱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临床应用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口服：胃十二指肠溃疡、反流性食管炎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……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口服、静脉：上消化道出血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为动力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（二）其他常用药物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西沙必利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又称普瑞博思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全胃肠动力药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用于治疗胃轻瘫、胃食管反流、假性肠梗阻导致的推进性蠕动不足和胃肠内容物滞留及慢性便秘等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常见不良反应有瞬时性胃肠痉挛，肠鸣或腹泻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肝肾功能不全、老年人应减量或不用，有过敏史者、孕妇、哺乳期妇女禁用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为动力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（二）其他常用药物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甲氧氯普胺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又称胃复安、灭吐灵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中枢性止吐、促进消化道蠕动、促进催乳素释放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主要用于肿瘤化疗、放射治疗、手术后及胃肠功能失调等引起的恶心、呕吐；反流性食管炎及胃溃疡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常见不良反应有倦怠、嗜睡、头晕等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大剂量、长期使用因阻断中枢多巴胺受体而致锥体外系反应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禁用于嗜铬细胞瘤、癫痫、乳癌患者放疗和化疗时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H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Verdana"/>
                <a:ea typeface="宋体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拮抗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000"/>
                </a:solidFill>
                <a:latin typeface="Verdana"/>
                <a:ea typeface="宋体"/>
              </a:rPr>
              <a:t>（一）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法莫替丁（</a:t>
            </a: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famotidine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体内过程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口服后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小时血药浓度达高峰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t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Verdana"/>
                <a:ea typeface="宋体"/>
              </a:rPr>
              <a:t>1/2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为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.7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4.2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小时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生物利用度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0%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40%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不通过胎盘屏障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80%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以原型自尿排出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用法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口服：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0mg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Bid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；维持治疗，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0mg QN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静脉滴注：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0mg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溶于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0ml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以上生理盐水或葡萄糖液，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&gt;30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分钟，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Bid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H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Verdana"/>
                <a:ea typeface="宋体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拮抗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000"/>
                </a:solidFill>
                <a:latin typeface="Verdana"/>
                <a:ea typeface="宋体"/>
              </a:rPr>
              <a:t>（一）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法莫替丁（</a:t>
            </a: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famotidine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 startAt="5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不良反应和禁忌证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常见不良反应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3" marL="1771560" indent="-514080">
              <a:spcBef>
                <a:spcPts val="601"/>
              </a:spcBef>
              <a:buClr>
                <a:srgbClr val="046ca6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头痛、头晕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……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.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禁忌证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3" marL="1771560" indent="-514080">
              <a:spcBef>
                <a:spcPts val="601"/>
              </a:spcBef>
              <a:buClr>
                <a:srgbClr val="046ca6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肝肾功能受损者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H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Verdana"/>
                <a:ea typeface="宋体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拮抗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000"/>
                </a:solidFill>
                <a:latin typeface="Verdana"/>
                <a:ea typeface="宋体"/>
              </a:rPr>
              <a:t>（一）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法莫替丁（</a:t>
            </a: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famotidine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 startAt="6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应用应排除胃肠肿瘤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哺乳期妇女应用时应停止哺乳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孕妇慎用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氢氧化铝、镁等抗酸剂可降低法莫替丁的生物利用度和血药浓度，故二者不宜合用。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H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Verdana"/>
                <a:ea typeface="宋体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拮抗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24000" y="105264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000"/>
                </a:solidFill>
                <a:latin typeface="Verdana"/>
                <a:ea typeface="宋体"/>
              </a:rPr>
              <a:t>（二）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其他常用</a:t>
            </a: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H</a:t>
            </a:r>
            <a:r>
              <a:rPr b="0" lang="en-US" sz="3200" spc="-1" strike="noStrike" baseline="-25000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受体拮抗剂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216000" y="1700280"/>
          <a:ext cx="8928000" cy="4732200"/>
        </p:xfrm>
        <a:graphic>
          <a:graphicData uri="http://schemas.openxmlformats.org/drawingml/2006/table">
            <a:tbl>
              <a:tblPr/>
              <a:tblGrid>
                <a:gridCol w="792000"/>
                <a:gridCol w="4103640"/>
                <a:gridCol w="4032360"/>
              </a:tblGrid>
              <a:tr h="597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46ca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西咪替丁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46ca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雷尼替丁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46ca6"/>
                    </a:solidFill>
                  </a:tcPr>
                </a:tc>
              </a:tr>
              <a:tr h="678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作用特点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对基础胃酸的抑制作用弱于法莫替丁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选择性的组胺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H </a:t>
                      </a:r>
                      <a:r>
                        <a:rPr b="0" lang="en-US" sz="1800" spc="-1" strike="noStrike" baseline="-25000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2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受体拮抗剂，作用弱于法莫替丁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1"/>
                    </a:solidFill>
                  </a:tcPr>
                </a:tc>
              </a:tr>
              <a:tr h="677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临床应用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胃和十二指肠溃疡、应激性溃疡、上消化出血；预防化学性腐蚀性胃炎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消化性溃疡、术后溃疡、反流性食管炎等；静脉用药可治上消化道出血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1"/>
                    </a:solidFill>
                  </a:tcPr>
                </a:tc>
              </a:tr>
              <a:tr h="745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体内过程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血药浓度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30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分钟达峰；生物利用度高；</a:t>
                      </a:r>
                      <a:r>
                        <a:rPr b="0" i="1" lang="en-US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t</a:t>
                      </a:r>
                      <a:r>
                        <a:rPr b="0" lang="en-US" sz="2000" spc="-1" strike="noStrike" baseline="-25000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1/2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约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2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小时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口服生物利用度为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50%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，</a:t>
                      </a:r>
                      <a:r>
                        <a:rPr b="0" i="1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t</a:t>
                      </a:r>
                      <a:r>
                        <a:rPr b="0" lang="en-US" sz="1800" spc="-1" strike="noStrike" baseline="-25000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1/2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 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为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2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～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2.7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小时，作用持续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12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小时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1"/>
                    </a:solidFill>
                  </a:tcPr>
                </a:tc>
              </a:tr>
              <a:tr h="677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服用方法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0.2 tid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，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0.4 QN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，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4~6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周一疗程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0.15 Bid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，维持量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0.15 QD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1"/>
                    </a:solidFill>
                  </a:tcPr>
                </a:tc>
              </a:tr>
              <a:tr h="1355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不良反应和监护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腹胀、腹泻、口苦、口干等消化道反应；头晕、乏力、嗜睡等神经系统反应；对骨髓有抑制，应定期查血象；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通过胎盘屏障，不宜用于孕妇、哺乳期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副作用少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严重肝肾功能受损者应调节剂量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长期应用降低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VitB</a:t>
                      </a:r>
                      <a:r>
                        <a:rPr b="0" lang="en-US" sz="2000" spc="-1" strike="noStrike" baseline="-25000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12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吸收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孕妇、婴儿及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8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岁以下儿童禁用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质子泵抑制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000"/>
                </a:solidFill>
                <a:latin typeface="Verdana"/>
                <a:ea typeface="宋体"/>
              </a:rPr>
              <a:t>（一）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奥美拉唑（</a:t>
            </a: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omeprazole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又称：洛赛克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药理作用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抑制基础胃酸分泌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抑制刺激胃酸分泌：作用强大持久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保护胃黏膜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抗幽门螺杆菌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临床应用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胃、十二指肠溃疡、卓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-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艾综合征、反流性食管炎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……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4T06:53:15Z</dcterms:modified>
  <cp:revision>115</cp:revision>
  <dc:subject/>
  <dc:title>内科护理学</dc:title>
</cp:coreProperties>
</file>